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C96-DAA7-4028-94B1-1E7CC9304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F6C3-ADA1-4B28-8FC8-B78903DE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F16-681B-4126-A8BB-9BE0925F3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5CA-19BA-4568-8BFD-69E9615E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2FD1-F1D7-40FC-A9D7-781E6005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A4E8-C4A5-465B-BE82-B40A1F04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35DF-7E66-4149-B1B7-8FB9F0C3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9EB9-BE09-4806-935A-351CBB1F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7609-2855-4CDB-9B17-D19DADD6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F6D7-6E48-409A-A18E-BEC86B150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11D6-4C6B-4E52-ACCE-6BE8DDCB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03C2-A0FE-4A99-A779-38D48024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6573-0240-49B5-A340-821852B1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5FC7-B282-40FF-BE65-E0C5B9C6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C7C2-424D-4891-8945-AE6998E5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1520-3D30-4EAE-A223-7FA41204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DDBC-25C9-4B81-9BEB-D4AD4991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CB3CA-19F6-4F84-A9E1-B89C7CBD2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FDA9A-7668-4AB7-9FC8-690E2BA34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E1B27B-C967-4717-85DF-0082AFB0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5F888-E55C-4638-9F41-3A0E3376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CB9ACE-A450-4925-8307-27473EAA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5CB-B16B-4BA2-81BC-8051F666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34807-4434-4A3D-B5CE-9400121E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91050-C991-4AA4-9DC5-BD257E98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0F8F7E-55C9-445F-9117-97F2CACD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6BD79-5B5E-42D5-9979-65E5F30D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3D90F-D761-4743-A1F0-4D7B10EA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1CD0B8-5530-4E6F-8CBD-470CF1A9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FE780-EFE4-4316-8995-BE991654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0EA0A-FFB2-4B94-8F24-27BF62251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0B966-0313-49F0-90EC-97ADBAED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AD313-76FF-4374-A03C-0090B254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16F8-2A8B-4B30-8C8E-0A84E45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2E487-26C7-42AE-A9EF-80754D8E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9F09-E9A1-4F7C-9F48-8B14810C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029F3-D110-4846-97C3-F3705C92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1C432-9AC9-4DF2-B3E1-8D5D8A42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42EC4-E1DC-4D65-9AC2-44441A5E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61848-B890-48D7-B95C-C73331E5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9A08F-4ED1-4AFD-B851-771B5ED8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015D7-90C8-4F3C-B828-341827B2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41E4-ED6C-4960-B033-F41E6ED0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A5FDEA-6519-4014-B927-BADB54FC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320-9E5D-4586-9895-86A329F6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AFD7A-1296-4113-906D-9B695B04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1C192-18BF-44BA-A869-9D8130889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72501-CB64-44EB-9B59-ADA252AD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1B60C9-ECC8-4A61-9325-DF739622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BA26DF-9E8A-4902-B6CF-286BA425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920A2-4B55-4254-9E04-9D97A266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D086E9-3058-4D07-AD87-2335CE3B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EE174-39C6-4E0B-BB28-2E646AD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271296-8636-4425-8062-F59BC9C0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4C80A-4C49-4CB2-BAB7-2E05C475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CCBF-27F4-4112-84D3-8E3A3DD7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934AAF-C299-4590-A818-A6B085BF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187913-ADB1-4AE8-AD84-2A537189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FB4C4-2949-4984-A2BF-63D683F4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B08CD-05FA-43D9-AE55-AEE23981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13B1EF-E7E7-4C52-889A-8931FC1A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5E821-4B2F-4B83-8361-725B392C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338F2-8EF1-44CD-AFC3-38EF26FA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0F92E-CFA7-46B9-8401-D028AF8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40E4D3-A3A3-4E51-B87D-19046ACD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6D7EAA-B625-46DF-B9E4-01AA254C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A7C1-AE96-4BAE-BA0F-C53099B4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65CE59-0F0D-4803-BD7F-4FC4D5A3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D3C54-140F-4895-8FC3-15A58E62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AB09D-FE3D-4980-9610-81E1405A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3DCDEB-3C21-49D9-9E50-D988122C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A86CFA-E0DE-4999-9BA1-1BB1D473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68957-9739-4F1B-93AF-80B07479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2B5C1E-3ED3-4EC7-BF02-FEF3B32C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2253A-4A55-40A6-875F-17C11285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98051-B61D-49A3-9A11-B4A9C5B9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57C3F-F373-45DF-8955-2E54AFAF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B962-496B-4272-8789-3B5F3687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B0906-653A-4E5E-9204-5D7A54DD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6184FE-4935-4DA4-9F6E-15C441CB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DBF0A7-B073-4D36-887B-D730AD73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52261-F892-4925-A832-16D3D26D4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A956EA-4B43-416B-8D5A-B3BF8E8D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FD9-321E-49D2-96C1-A72D343C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7BDD-E17E-47B6-807F-D1348764F6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drept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4775-F152-4518-AF82-F0570EA481D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58DD-E89D-4C70-90BE-91D0C78675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reptunghi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drept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2385-EA51-414A-9288-05C63B87D97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DBBB-D908-4828-8AA7-7C539BC5379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drept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drept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drept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reptunghi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drept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8747-0BCA-4377-94AF-F8CD51D310F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drep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reptunghi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drep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drept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EDC1-9B7D-4057-88DC-5EB04F480C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280" y="2204640"/>
            <a:ext cx="734364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SORTAREA TABLOURILOR UNIDIMENSIONALE PRIN METODA BULELOR</a:t>
            </a:r>
            <a:br>
              <a:rPr sz="3600"/>
            </a:b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-BUBBLE SORT-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635280" y="501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Arial"/>
              </a:rPr>
              <a:t>Prof. Sofroni Iu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VARIABILE NECESAR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 – tabloul unidimensional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n – lungimea tabloului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ux – pentru interschimbul elementelor (de acelaşi tip cu elementele tabloului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i – contor (utilizat pentru parcurgerea tabloului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 – variabilă logică (se utilizează pentru a şti dacă s-a făcut cel puţin o operaţie de interschimbare la parcurgere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abloului false-nu s-a facut interschimbare, true- s-a facut interchimbare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575f6d"/>
                </a:solidFill>
                <a:latin typeface="Century Schoolbook"/>
              </a:rPr>
              <a:t>ALGORITMUL ÎN LIMBAJ </a:t>
            </a: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PSEUDOCOD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{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=0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(i=0;i&lt;n-1;i++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f(a[i]&gt;a[i+1]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{  aux =a[i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[i] =a[i+1]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[i+1]=aux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 =1;}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ile (f);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LICATIA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a se scrie un program care citeste un vector, il afiseaza, sorteaza crescator elementele acestuia si apoi il reafiseaza sorta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PLICATIA 2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Dându-se un tablou cu n elemente numere naturale, şi o variabilă p naturală (p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&lt;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n), să se sorteze crescător tabloul până la elementul p şi de la elementul p descrescăt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EM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Dându-se un tablou cu n elemente numere naturale, să se localizeze elementul maxim şi toate elementele dinaintea lui să se sorteze crescător, iar cele de după e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descrescăt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7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575f6d"/>
                </a:solidFill>
                <a:latin typeface="Century Schoolbook"/>
              </a:rPr>
              <a:t>SEMNIFICAŢIA NOŢIUNII DE SORTAR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335880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A sort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n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tablou înseamnă 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aranja elementele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tabloulu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stfel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încât între acestea să existe o relaţie de ordine (crescătoare sau descrescătoa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400" cy="6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575f6d"/>
                </a:solidFill>
                <a:latin typeface="Century Schoolbook"/>
              </a:rPr>
              <a:t>DESCRIEREA METODEI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7704000" cy="35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3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Prin această metodă se parcurge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tabloul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 şi se compară fiecare element cu succesorul său. Dacă nu sunt în ordine, cele două elemente se interschimbă între ele.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Tabloul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 se parcurge de mai multe ori, până când, la o parcurgere completă, nu se mai execută nici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o interschimbare între elemente (adică </a:t>
            </a: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tabloul</a:t>
            </a:r>
            <a:r>
              <a:rPr b="1" lang="ro-RO" sz="2800" spc="-1" strike="noStrike">
                <a:solidFill>
                  <a:srgbClr val="575f6d"/>
                </a:solidFill>
                <a:latin typeface="Century Schoolbook"/>
              </a:rPr>
              <a:t> este sortat)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3819600" y="125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400" spc="-1" strike="noStrike">
                <a:solidFill>
                  <a:srgbClr val="575f6d"/>
                </a:solidFill>
                <a:latin typeface="Century Schoolbook"/>
              </a:rPr>
              <a:t>ENUNŢUL PROBLEMEI:</a:t>
            </a:r>
            <a:br>
              <a:rPr sz="3400"/>
            </a:b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35224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Se dă un tablou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a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cu </a:t>
            </a:r>
            <a:r>
              <a:rPr b="1" lang="ro-RO" sz="2400" spc="-1" strike="noStrike">
                <a:solidFill>
                  <a:srgbClr val="000000"/>
                </a:solidFill>
                <a:latin typeface="Century Schoolbook"/>
              </a:rPr>
              <a:t>n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 elemente întregi. Să se realizeze sortarea crescătoare a elementelor tabloulu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65308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2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8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AutoShape 20"/>
          <p:cNvCxnSpPr>
            <a:stCxn id="362" idx="2"/>
            <a:endCxn id="369" idx="2"/>
          </p:cNvCxnSpPr>
          <p:nvPr/>
        </p:nvCxnSpPr>
        <p:spPr>
          <a:xfrm flipH="1" rot="16200000">
            <a:off x="6802920" y="35143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2" name="AutoShape 21"/>
          <p:cNvCxnSpPr/>
          <p:nvPr/>
        </p:nvCxnSpPr>
        <p:spPr>
          <a:xfrm flipH="1" rot="16200000">
            <a:off x="3345480" y="3574800"/>
            <a:ext cx="216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3" name="AutoShape 22"/>
          <p:cNvCxnSpPr/>
          <p:nvPr/>
        </p:nvCxnSpPr>
        <p:spPr>
          <a:xfrm flipH="1" rot="16200000">
            <a:off x="4569480" y="3574800"/>
            <a:ext cx="216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74" name="AutoShape 23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75" name="Text Box 2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9179 L 1.94444E-006 -0.24115 E">
                                      <p:cBhvr>
                                        <p:cTn id="4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1.96532E-006 L 0.12587 -1.96532E-006 E">
                                      <p:cBhvr>
                                        <p:cTn id="44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0.24115 L -0.12605 -0.24115 E">
                                      <p:cBhvr>
                                        <p:cTn id="47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-0.24115 L -0.12604 -1.96532E-006 E">
                                      <p:cBhvr>
                                        <p:cTn id="50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9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0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5651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2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AutoShape 14"/>
          <p:cNvCxnSpPr/>
          <p:nvPr/>
        </p:nvCxnSpPr>
        <p:spPr>
          <a:xfrm flipH="1" rot="16200000">
            <a:off x="3273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8" name="AutoShape 15"/>
          <p:cNvCxnSpPr/>
          <p:nvPr/>
        </p:nvCxnSpPr>
        <p:spPr>
          <a:xfrm flipH="1" rot="16200000">
            <a:off x="4497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89" name="AutoShape 16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0" name="AutoShape 17"/>
          <p:cNvCxnSpPr/>
          <p:nvPr/>
        </p:nvCxnSpPr>
        <p:spPr>
          <a:xfrm flipH="1" rot="16200000">
            <a:off x="6945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91" name="Text Box 18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96532E-006 L 3.61111E-006 -0.2726 E">
                                      <p:cBhvr>
                                        <p:cTn id="85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96532E-006 L 0.12587 -1.96532E-006 E">
                                      <p:cBhvr>
                                        <p:cTn id="88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2726 L -0.12587 -0.2726 E">
                                      <p:cBhvr>
                                        <p:cTn id="91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587 -0.2726 L -0.12587 -1.96532E-006 E">
                                      <p:cBhvr>
                                        <p:cTn id="9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8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9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5651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AutoShape 13"/>
          <p:cNvCxnSpPr/>
          <p:nvPr/>
        </p:nvCxnSpPr>
        <p:spPr>
          <a:xfrm flipH="1" rot="16200000">
            <a:off x="3273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4" name="AutoShape 14"/>
          <p:cNvCxnSpPr/>
          <p:nvPr/>
        </p:nvCxnSpPr>
        <p:spPr>
          <a:xfrm flipH="1" rot="16200000">
            <a:off x="4497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5" name="AutoShape 15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06" name="AutoShape 16"/>
          <p:cNvCxnSpPr/>
          <p:nvPr/>
        </p:nvCxnSpPr>
        <p:spPr>
          <a:xfrm flipH="1" rot="16200000">
            <a:off x="6945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7" name="Text Box 1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96532E-006 L 1.66667E-006 -0.1993 E">
                                      <p:cBhvr>
                                        <p:cTn id="130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1.96532E-006 L 0.12604 -1.96532E-006 E">
                                      <p:cBhvr>
                                        <p:cTn id="133" dur="2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1993 L -0.12604 -0.1993 E">
                                      <p:cBhvr>
                                        <p:cTn id="136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-0.1993 L -0.12604 -1.96532E-006 E">
                                      <p:cBhvr>
                                        <p:cTn id="139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5651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2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13"/>
          <p:cNvCxnSpPr/>
          <p:nvPr/>
        </p:nvCxnSpPr>
        <p:spPr>
          <a:xfrm flipH="1" rot="16200000">
            <a:off x="3273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0" name="AutoShape 14"/>
          <p:cNvCxnSpPr/>
          <p:nvPr/>
        </p:nvCxnSpPr>
        <p:spPr>
          <a:xfrm flipH="1" rot="16200000">
            <a:off x="4497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1" name="AutoShape 15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22" name="AutoShape 16"/>
          <p:cNvCxnSpPr/>
          <p:nvPr/>
        </p:nvCxnSpPr>
        <p:spPr>
          <a:xfrm flipH="1" rot="16200000">
            <a:off x="6945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Text Box 1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3.33333E-006 -0.22034 E">
                                      <p:cBhvr>
                                        <p:cTn id="174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96532E-006 L 0.12605 -1.96532E-006 E">
                                      <p:cBhvr>
                                        <p:cTn id="177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22035 L -0.12604 -0.22035 E">
                                      <p:cBhvr>
                                        <p:cTn id="180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-0.22034 L -0.12604 -1.96532E-006 E">
                                      <p:cBhvr>
                                        <p:cTn id="183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68480" y="287280"/>
            <a:ext cx="8075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100" spc="-1" strike="noStrike">
                <a:solidFill>
                  <a:srgbClr val="575f6d"/>
                </a:solidFill>
                <a:latin typeface="Century Schoolbook"/>
              </a:rPr>
              <a:t>FIE TABLOUL UNIDIMENSIONAL A CE ARE URMĂTORUL CONŢINUT: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195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6804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450072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348000" y="2781360"/>
            <a:ext cx="115272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3780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8"/>
          <p:cNvSpPr/>
          <p:nvPr/>
        </p:nvSpPr>
        <p:spPr>
          <a:xfrm>
            <a:off x="2556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601200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85928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5651640" y="2781360"/>
            <a:ext cx="1152360" cy="1295280"/>
          </a:xfrm>
          <a:prstGeom prst="rect">
            <a:avLst/>
          </a:prstGeom>
          <a:solidFill>
            <a:srgbClr val="fe863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716436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13"/>
          <p:cNvCxnSpPr/>
          <p:nvPr/>
        </p:nvCxnSpPr>
        <p:spPr>
          <a:xfrm flipH="1" rot="16200000">
            <a:off x="3273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6" name="AutoShape 14"/>
          <p:cNvCxnSpPr/>
          <p:nvPr/>
        </p:nvCxnSpPr>
        <p:spPr>
          <a:xfrm flipH="1" rot="16200000">
            <a:off x="4497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7" name="AutoShape 15"/>
          <p:cNvCxnSpPr/>
          <p:nvPr/>
        </p:nvCxnSpPr>
        <p:spPr>
          <a:xfrm flipH="1" rot="16200000">
            <a:off x="5721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38" name="AutoShape 16"/>
          <p:cNvCxnSpPr/>
          <p:nvPr/>
        </p:nvCxnSpPr>
        <p:spPr>
          <a:xfrm flipH="1" rot="16200000">
            <a:off x="6945840" y="3501720"/>
            <a:ext cx="2520" cy="1151640"/>
          </a:xfrm>
          <a:prstGeom prst="bentConnector3">
            <a:avLst>
              <a:gd name="adj1" fmla="val 136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39" name="Text Box 17"/>
          <p:cNvSpPr/>
          <p:nvPr/>
        </p:nvSpPr>
        <p:spPr>
          <a:xfrm>
            <a:off x="1042920" y="314172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8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06:32:01Z</dcterms:created>
  <dc:creator>Syseng</dc:creator>
  <dc:description/>
  <dc:language>en-US</dc:language>
  <cp:lastModifiedBy>User</cp:lastModifiedBy>
  <dcterms:modified xsi:type="dcterms:W3CDTF">2013-04-28T20:08:56Z</dcterms:modified>
  <cp:revision>22</cp:revision>
  <dc:subject/>
  <dc:title>SORTAREA PRIN METODA BULELOR</dc:title>
</cp:coreProperties>
</file>